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DE4C-8B02-4BC6-BEF9-5C290B69B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F9C7-D5E3-4806-8DBB-5216E243C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69C0-BA1F-47D1-903D-BB8AC380F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ADFF-383F-4FAA-96B1-041843B5A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F9552-DCCD-4C96-9A57-D85A06012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103F7-85BF-4768-9074-F83193466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193AC-AF02-462A-B17F-257A532F3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1836F-3FEF-4C18-A717-B869AAC21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CFB97-1C38-4DD1-977D-5659FF5B8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A29C4-CDA8-4A92-8A0D-E594E893F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1FB73-4B49-4674-A640-F7EADD86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2906-1640-4057-8A81-282F9B6A4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98F5E-7AA4-413E-ABA8-05A0DF59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88596-01FB-43DF-AA09-D27E7E6A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CE71B-943C-4547-878B-9C48C68BB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2E696-9836-4ABB-9BC7-6CDBC67AB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822E7-F2A7-4C6D-9F42-CD8EDCAF6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0108-71E1-4201-A1EB-F285A7398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CD87-4FF3-4567-BE1C-B43B21646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383C-CC56-43D7-A54B-A96BCE14B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64CC-41B0-46B8-BC92-AB0B14F32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EF0D-9F07-491D-9809-DC3D317E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B7DF-86E9-4D88-9CE5-1DAEA593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EE53-4FCE-4ED9-A360-465192D6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16E4A-97B8-471D-944D-5A6A944E94CC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3FD84-9466-4ECE-AEF4-574A21212E1C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339040" cy="2054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1800"/>
            <a:ext cx="6400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ich leads to the question, which is more important, perhaps…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Book Antiqua"/>
              </a:rPr>
              <a:t>WHY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IS THE SCIENCE CURRICULUM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lf as explainer*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lid foundations*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cience-Technology-Decisions*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cientific skills*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orrect explanations*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veryday coping*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ature of Science*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rom Roberts, D. (1982)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TEM = Science, Technology, Engineering, Mathematic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orkforce—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ighest paying jobs http://wiki.answers.com/Q/What_are_the_highest_paying_job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restige/Pride http://www.usatoday.com/money/economy/employment/2005-05-23-prestige-usat_x.htm http://www.usnews.com/usnews/biztech/articles/070802/2prestige.htm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mal Curriculum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– What is supposed to be included (a.k.a. the Explicit Curriculum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Null Curriculum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—What is left out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Hidden Curriculum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—What is taught unintentionall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urriculum in Use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—What is really taugh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mergent Curriculum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—What comes about through interaction with student interests and current even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ceived Curriculum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—What students lear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tandard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ublished curriculum material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upplemental material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rade publicatio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tudent interes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eacher creativit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25600" indent="-394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ith apologies to Miriam Ben-Peretz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at is intended by the developers is not necessarily how curriculum materials are used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eachers interpret curriculum material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terpretation of curriculum materials, or any materials, depends on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33400" indent="-27108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eachers’ creative abilities,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33400" indent="-27108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knowledge of curriculum,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33400" indent="-27108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knowledge of subject matter,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33400" indent="-27108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knowledge of discipline,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33400" indent="-27108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context in which the teacher work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19840" indent="-390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world according to Robeck…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t its best, “curriculum” is intentional and responsive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t its best, “curriculum” makes use of the widest possible array of resources in an effort to help learning occur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t its best, “curriculum” is active in the lives of both the teacher and the student in several ways, at several levels both in and out of school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 what we have done so far in this class, find examples for each of the ideas in this presentation, if you can…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ich of the ideas were easiest to find examples of? Which were hardest? Why do you suppose that is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at might be the consequences of practicing teaching without knowledge of each of these ideas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at are the abilities implied by each idea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13:31:38Z</dcterms:created>
  <dc:creator>Information Technology</dc:creator>
  <dc:description/>
  <dc:language>en-US</dc:language>
  <cp:lastModifiedBy>Information Technology</cp:lastModifiedBy>
  <dcterms:modified xsi:type="dcterms:W3CDTF">2010-02-22T14:38:28Z</dcterms:modified>
  <cp:revision>8</cp:revision>
  <dc:subject/>
  <dc:title>What is the Science Curriculum?</dc:title>
</cp:coreProperties>
</file>